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6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A98-FA89-48AF-BCAF-B0C44B20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372-2211-454A-AB8C-D23B1ED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AF5-2087-4356-BD64-59197D01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917-2D3C-4A99-9A92-066D4AEB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233-FC74-4EEA-B21B-A6464AF6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C9B-0415-427F-9161-C2480F8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E829-CA6A-4AC2-9761-8357682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CFB6-51EE-4D95-B23E-FAE96CF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4560-B571-4C2E-BB6B-A1F88E8F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76C-62A3-4D3C-A958-CE5C783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627-D577-4E4D-8F89-DBD6AEA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674-1E7C-488F-BC6F-3837CD4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3817-92CF-4A8D-A9A3-B54E08BA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44F-432B-42BB-82F1-C25E0D6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D977-9C49-4C8E-BD83-6B64F13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94B-51E2-4F42-BCB5-DC1C2F42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ED37-FBD9-435C-AC63-16C6554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8A4-2BBD-4EBD-8A72-90830382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E7A-EC42-4E24-A8D3-1FF4F11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F91-8173-4D92-BD8E-6B3ECB3F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CB5-1CD5-43CF-A767-9EAF2E1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2BB-6DE5-4DCE-9B40-5F5123F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4CA-658A-430C-862F-DAE6955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B6B-223E-427F-9A0D-6291EB1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C63-93FD-4C79-B160-5896293D30A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1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06AA-6C34-4A68-B484-21E253A60CB7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3.bp.blogspot.com/_-Of4sYKZBGI/R_uK_Bud0II/AAAAAAAAAQg/XtnMFqVw4TE/s1600-h/huey_long_02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history.sandiego.edu/cdr2/WW2Pics/04443.GIF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Franklin D. Roosevel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d the New De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89160" y="5407200"/>
            <a:ext cx="64008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edefined Democracy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Political Rights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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 Economic</a:t>
            </a:r>
            <a:br>
              <a:rPr sz="2600"/>
            </a:b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urity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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 Social Justic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Picture 6" descr="fdr"/>
          <p:cNvPicPr/>
          <p:nvPr/>
        </p:nvPicPr>
        <p:blipFill>
          <a:blip r:embed="rId1"/>
          <a:stretch/>
        </p:blipFill>
        <p:spPr>
          <a:xfrm>
            <a:off x="109440" y="4730760"/>
            <a:ext cx="1982880" cy="199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35040" y="1109520"/>
            <a:ext cx="80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</a:rPr>
              <a:t>Agend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ellwork: US History Formative Exam EOC or Thesis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Videos: 1929 Stock Market Crash (History.com) and FDR Voice of Hope (History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2) PowerPoint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3) 4) Thinking Question (Exit Slip, if time): What was FDR’s best quality as president &amp; 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</a:rPr>
              <a:t>HOMEWOR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: Reading Notes on Harlem Renaiss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166840" y="445788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Map of the Presidential Election of 1932.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4829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946080" y="602784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946080" y="274680"/>
            <a:ext cx="73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ction of 193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400" y="60912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tuation When FDR Entered Off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March 1933, the country was virtuall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leaderles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h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anking system had collap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new deal3"/>
          <p:cNvPicPr/>
          <p:nvPr/>
        </p:nvPicPr>
        <p:blipFill>
          <a:blip r:embed="rId1"/>
          <a:stretch/>
        </p:blipFill>
        <p:spPr>
          <a:xfrm>
            <a:off x="10418760" y="2763720"/>
            <a:ext cx="1343160" cy="109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54c45c20"/>
          <p:cNvPicPr/>
          <p:nvPr/>
        </p:nvPicPr>
        <p:blipFill>
          <a:blip r:embed="rId2"/>
          <a:stretch/>
        </p:blipFill>
        <p:spPr>
          <a:xfrm>
            <a:off x="5273640" y="1816200"/>
            <a:ext cx="34448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DR Restored Confid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408924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n his inaugural address, he said </a:t>
            </a:r>
            <a:r>
              <a:rPr b="0" i="1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“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The only thing we have to fear is fear itself….</a:t>
            </a:r>
            <a:r>
              <a:rPr b="0" i="1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”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promised vigorous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leadershi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old ac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called for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discipli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opera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expressed his faith in democracy, and asked for divine protection and guid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5" descr=" Inauguration of President Franklin Roosevelt."/>
          <p:cNvPicPr/>
          <p:nvPr/>
        </p:nvPicPr>
        <p:blipFill>
          <a:blip r:embed="rId1"/>
          <a:srcRect l="0" t="0" r="14935" b="0"/>
          <a:stretch/>
        </p:blipFill>
        <p:spPr>
          <a:xfrm>
            <a:off x="4289400" y="1633680"/>
            <a:ext cx="4854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5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DR</a:t>
            </a:r>
            <a:r>
              <a:rPr b="0" lang="ja-JP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 Personal Qualit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8280" y="1028880"/>
            <a:ext cx="5067360" cy="56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a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ractical politici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ho practiced the art of the possi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a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harisma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erson who exhibited a warmth and understanding of peo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ne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ow to handle pre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by focusing attention on Washingt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rovided dynamic leadershi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 a time of crisi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willing to experi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5" descr="fdr2"/>
          <p:cNvPicPr/>
          <p:nvPr/>
        </p:nvPicPr>
        <p:blipFill>
          <a:blip r:embed="rId1"/>
          <a:srcRect l="0" t="723" r="0" b="0"/>
          <a:stretch/>
        </p:blipFill>
        <p:spPr>
          <a:xfrm>
            <a:off x="5384880" y="1150920"/>
            <a:ext cx="356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rposes of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193400"/>
            <a:ext cx="49370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lief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to provide jobs for the unemployed and to protect farmers from foreclo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covery: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to get the economy back into high gear, </a:t>
            </a:r>
            <a:r>
              <a:rPr b="0" lang="ja-JP" sz="28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iming the pump</a:t>
            </a:r>
            <a:r>
              <a:rPr b="0" lang="ja-JP" sz="28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form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o regulate banks, to abolish child labor, and to conserve farm la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Overall objective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: to save capitalism (America’s economic syste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6" descr="coaz4d_im203"/>
          <p:cNvPicPr/>
          <p:nvPr/>
        </p:nvPicPr>
        <p:blipFill>
          <a:blip r:embed="rId1"/>
          <a:stretch/>
        </p:blipFill>
        <p:spPr>
          <a:xfrm>
            <a:off x="5232240" y="1357200"/>
            <a:ext cx="38354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rces of New Deal Id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6680" y="923400"/>
            <a:ext cx="52308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rains Trust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ists and experts, mostly college professors, idea 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w Economist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overnment spending, deficit spending and public works, government should prime economic pum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oosevelt Cabinet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cluded conservatives, liberals, Democrats, Republicans, inflationists, anti-inflationists -- often conflicting, compromising, blending id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05-fdrandpacificwarcouncil5201943-398h"/>
          <p:cNvPicPr/>
          <p:nvPr/>
        </p:nvPicPr>
        <p:blipFill>
          <a:blip r:embed="rId1"/>
          <a:srcRect l="19999" t="0" r="18999" b="0"/>
          <a:stretch/>
        </p:blipFill>
        <p:spPr>
          <a:xfrm>
            <a:off x="5295960" y="1125360"/>
            <a:ext cx="3682800" cy="3713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302080" y="4199040"/>
            <a:ext cx="366408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rst New Deal (1933-1934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1160" y="1280880"/>
            <a:ext cx="53528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Emphasi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litical Posi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conservati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Primary aim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conomic recov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hilosoph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onomic nationalism and economic scarcity (i.e., raise prices by creating the illusion of scarci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Objective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igher prices for agriculture and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neficiaries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g business and agricultural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5" descr="FDR with CCC Enrollees"/>
          <p:cNvPicPr/>
          <p:nvPr/>
        </p:nvPicPr>
        <p:blipFill>
          <a:blip r:embed="rId1"/>
          <a:stretch/>
        </p:blipFill>
        <p:spPr>
          <a:xfrm>
            <a:off x="5537160" y="1434960"/>
            <a:ext cx="353844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Recovery Act (NRA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4152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of indust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d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artnership of business, labor, and governm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attack the depression with such measures as price controls, high wages, and codes of fair compet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5" descr="NRAposter1933"/>
          <p:cNvPicPr/>
          <p:nvPr/>
        </p:nvPicPr>
        <p:blipFill>
          <a:blip r:embed="rId1"/>
          <a:srcRect l="3075" t="4812" r="6151" b="3849"/>
          <a:stretch/>
        </p:blipFill>
        <p:spPr>
          <a:xfrm>
            <a:off x="10096560" y="2114640"/>
            <a:ext cx="639720" cy="817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www.arago.si.edu/media/000/005/880/5880_lg.jpg"/>
          <p:cNvPicPr/>
          <p:nvPr/>
        </p:nvPicPr>
        <p:blipFill>
          <a:blip r:embed="rId2"/>
          <a:stretch/>
        </p:blipFill>
        <p:spPr>
          <a:xfrm>
            <a:off x="4867200" y="1517760"/>
            <a:ext cx="4106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First Agricultural Adjustment Act (AAA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6680" y="1088640"/>
            <a:ext cx="431496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the recovery of agriculture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26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aid farmers who agreed to reduce production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of basic crops such as cotton, wheat, tobacco, hogs, and corn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26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Money came from </a:t>
            </a: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a tax on processors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 such as flour millers and meat packers who </a:t>
            </a: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assed the cost on to the consumer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5" descr="water1101"/>
          <p:cNvPicPr/>
          <p:nvPr/>
        </p:nvPicPr>
        <p:blipFill>
          <a:blip r:embed="rId1"/>
          <a:stretch/>
        </p:blipFill>
        <p:spPr>
          <a:xfrm>
            <a:off x="4530600" y="1303200"/>
            <a:ext cx="443232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12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Federal Emergency Relief Admin (FERA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92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lief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money to states and municipalities so they could distribut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money, clothing, and food to the unemploy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5" descr="clothingdistribution"/>
          <p:cNvPicPr/>
          <p:nvPr/>
        </p:nvPicPr>
        <p:blipFill>
          <a:blip r:embed="rId1"/>
          <a:srcRect l="0" t="0" r="0" b="13631"/>
          <a:stretch/>
        </p:blipFill>
        <p:spPr>
          <a:xfrm>
            <a:off x="4383000" y="1622520"/>
            <a:ext cx="453564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 Review Ques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4" descr="Screen Shot 2012-01-05 at 6.54.34 AM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ivilian Conservation Corp (CCC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717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ie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outdoor work to unemployed me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the ages of 17 and 2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received $30 per month, but $22 went back to the fami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yellowocc_2"/>
          <p:cNvPicPr/>
          <p:nvPr/>
        </p:nvPicPr>
        <p:blipFill>
          <a:blip r:embed="rId1"/>
          <a:srcRect l="0" t="687" r="0" b="0"/>
          <a:stretch/>
        </p:blipFill>
        <p:spPr>
          <a:xfrm>
            <a:off x="4672080" y="1149480"/>
            <a:ext cx="39862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cond New Deal (1934-1941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06280" y="1144440"/>
            <a:ext cx="499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mphasi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litical Position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e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rimary ai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permanent refor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hilosoph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national economic cooperation and economic abund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Objectiv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increased purchasing power and social security for publ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neficiari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small farmers and lab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Picture 4" descr="http://riverdaughter.files.wordpress.com/2009/02/socialsecurityactfdr.jpg"/>
          <p:cNvPicPr/>
          <p:nvPr/>
        </p:nvPicPr>
        <p:blipFill>
          <a:blip r:embed="rId1"/>
          <a:stretch/>
        </p:blipFill>
        <p:spPr>
          <a:xfrm>
            <a:off x="4660920" y="1287360"/>
            <a:ext cx="4287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136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cial Security A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0240" y="138924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money to states for aid to dependent children, established unemployment insurance through payroll deduction, set up old-age pensions for retire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2" descr="http://www.ssa.gov/history/pics/idamay5.jpg"/>
          <p:cNvPicPr/>
          <p:nvPr/>
        </p:nvPicPr>
        <p:blipFill>
          <a:blip r:embed="rId1"/>
          <a:stretch/>
        </p:blipFill>
        <p:spPr>
          <a:xfrm>
            <a:off x="4648320" y="1555920"/>
            <a:ext cx="4417920" cy="46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Labor Relations A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60280" y="1440000"/>
            <a:ext cx="3873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restraints on employers and set up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National Labor Relations Boar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protect the rights of organized labor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bargain collective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emplo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2" descr="http://cache.gettyimages.com/xc/3109224.jpg?v=1&amp;c=ViewImages&amp;k=2&amp;d=45BAE66225B176A18015C034720A6662A55A1E4F32AD3138"/>
          <p:cNvPicPr/>
          <p:nvPr/>
        </p:nvPicPr>
        <p:blipFill>
          <a:blip r:embed="rId1"/>
          <a:srcRect l="0" t="0" r="0" b="11274"/>
          <a:stretch/>
        </p:blipFill>
        <p:spPr>
          <a:xfrm>
            <a:off x="4187880" y="1674720"/>
            <a:ext cx="48020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609120"/>
            <a:ext cx="89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cond Agricultural Adjustment Act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9520" y="1787400"/>
            <a:ext cx="37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pose: recovery for agricul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d farmers for conservation practices, but only if the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stricted production of staple cro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2" descr="http://stfm.astate.edu/images/75-blytheville.jpg"/>
          <p:cNvPicPr/>
          <p:nvPr/>
        </p:nvPicPr>
        <p:blipFill>
          <a:blip r:embed="rId1"/>
          <a:stretch/>
        </p:blipFill>
        <p:spPr>
          <a:xfrm>
            <a:off x="4235400" y="1943280"/>
            <a:ext cx="4741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.S. Housing Autho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8400" y="187812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and 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federal funds to tear down slums and construct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etter hous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4" descr="Slum_camden_1938"/>
          <p:cNvPicPr/>
          <p:nvPr/>
        </p:nvPicPr>
        <p:blipFill>
          <a:blip r:embed="rId1"/>
          <a:stretch/>
        </p:blipFill>
        <p:spPr>
          <a:xfrm>
            <a:off x="4508640" y="2114640"/>
            <a:ext cx="4416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w Deal on Tri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1935,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olitical disun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as evident. There were critics on the right and the lef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2" descr="Freedom On Trial"/>
          <p:cNvPicPr/>
          <p:nvPr/>
        </p:nvPicPr>
        <p:blipFill>
          <a:blip r:embed="rId1"/>
          <a:stretch/>
        </p:blipFill>
        <p:spPr>
          <a:xfrm>
            <a:off x="4765680" y="2031840"/>
            <a:ext cx="3333600" cy="3343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5203800" y="3670200"/>
            <a:ext cx="1119240" cy="25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7a7e"/>
                </a:solidFill>
                <a:latin typeface="Bernard MT Condensed"/>
              </a:rPr>
              <a:t>NEW DE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22680"/>
            <a:ext cx="935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riticisms of Conservative Op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96640" y="1095480"/>
            <a:ext cx="8615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ervative opponents said the New Deal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went too f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cialis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killed individualis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added to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national deb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$35 bill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ted money on relief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ncouraged idl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violated the constitut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amp; states righ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ncreased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wer of the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residen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FDR was reaching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ward dictatorship, Congress a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bber stamp, independence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judiciary threatened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paration of powers shatter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4" descr="http://fratres.files.wordpress.com/2008/11/socialism1.jpg"/>
          <p:cNvPicPr/>
          <p:nvPr/>
        </p:nvPicPr>
        <p:blipFill>
          <a:blip r:embed="rId1"/>
          <a:stretch/>
        </p:blipFill>
        <p:spPr>
          <a:xfrm>
            <a:off x="6089760" y="3705120"/>
            <a:ext cx="2525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imary v. Secondary Sour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es…..look at the source, look at the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Primary: Speeches, Photographs, Pi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Secondary: Someone else criticizing or praising an event, a second-hand accou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ti-New Deal Organiz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23600" y="154296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ervative opponents to the New Deal had an organization called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merican Liberty Leagu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They had money but were small in numbers, so FDR was not worri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2" descr="http://www.hsd.org/MuseumExhibits/Schoonover_06/Schoonover.gif"/>
          <p:cNvPicPr/>
          <p:nvPr/>
        </p:nvPicPr>
        <p:blipFill>
          <a:blip r:embed="rId1"/>
          <a:srcRect l="5723" t="18425" r="41362" b="22877"/>
          <a:stretch/>
        </p:blipFill>
        <p:spPr>
          <a:xfrm>
            <a:off x="5118120" y="1674720"/>
            <a:ext cx="33195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ellwork: Thesis Statement Promp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8440" y="1981080"/>
            <a:ext cx="86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1920s was just an ordinary, boring decade in American Histor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gree or Disagree (DO NOT say “I Agree” or “Disagree.” Come up with an interesting statement about the 1920s [Take a position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2 specific, historical examples and offer a brief reason why those 2 examples make your position a good 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riticisms of Radical Op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703760" y="1646280"/>
            <a:ext cx="405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ical opponents said the New Deal did not go far enough. They wer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demagogu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abble-rousers) and had popular followings, so FDR was concer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2" descr="http://www.smh.com.au/ffximage/2008/12/16/webster_narrowweb__300x359,0.jpg"/>
          <p:cNvPicPr/>
          <p:nvPr/>
        </p:nvPicPr>
        <p:blipFill>
          <a:blip r:embed="rId1"/>
          <a:stretch/>
        </p:blipFill>
        <p:spPr>
          <a:xfrm>
            <a:off x="450720" y="1620720"/>
            <a:ext cx="4092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ator Huey Long (LA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3720" y="1145880"/>
            <a:ext cx="4830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ator Huey Long said New Deal relief measures were mere crumbs and advocated 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hare the wealt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 (i.e., a guaranteed annual income of at least $5,000 for every American, financed by confiscating wealth of people who made over $5 million per year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2" descr="http://3.bp.blogspot.com/_-Of4sYKZBGI/R_uK_Bud0II/AAAAAAAAAQg/XtnMFqVw4TE/s320/huey_long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6840" y="1351080"/>
            <a:ext cx="3943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ther Charles E. Coughl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800" y="1080720"/>
            <a:ext cx="49719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her Charles Coughlin wa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 rabble-rousing radio priest from Detroit. His  broadcasts were called the </a:t>
            </a:r>
            <a:r>
              <a:rPr b="0" lang="ja-JP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lden Hour of the Little Flower.</a:t>
            </a:r>
            <a:r>
              <a:rPr b="0" lang="ja-JP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He claimed ther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was an international bankers conspira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Jews were responsible. 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dvocated nationalization of banking and curren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national resources and demanded a </a:t>
            </a:r>
            <a:r>
              <a:rPr b="0" lang="ja-JP" sz="28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living wage.</a:t>
            </a:r>
            <a:r>
              <a:rPr b="0" lang="ja-JP" sz="2800" spc="-1" strike="noStrike">
                <a:solidFill>
                  <a:srgbClr val="ffc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Picture 4" descr="charles_coughlin_01"/>
          <p:cNvPicPr/>
          <p:nvPr/>
        </p:nvPicPr>
        <p:blipFill>
          <a:blip r:embed="rId1"/>
          <a:stretch/>
        </p:blipFill>
        <p:spPr>
          <a:xfrm>
            <a:off x="5024520" y="1262160"/>
            <a:ext cx="40114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. Francis E. Townsen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7040" y="1107720"/>
            <a:ext cx="46245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. Francis E. Townsend was an elderly physician from CA. He had a plan for the federal government to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ay $200 per month to unemployed people over 6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The program would be financed by a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2% national sales tax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each pensioner would be required to spend the money in 30 days. This would stimulate the econo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5" descr="townsend1"/>
          <p:cNvPicPr/>
          <p:nvPr/>
        </p:nvPicPr>
        <p:blipFill>
          <a:blip r:embed="rId1"/>
          <a:srcRect l="7788" t="5583" r="7759" b="12248"/>
          <a:stretch/>
        </p:blipFill>
        <p:spPr>
          <a:xfrm>
            <a:off x="4932360" y="1236600"/>
            <a:ext cx="3735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oderate Legisla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0000" y="1055520"/>
            <a:ext cx="8912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DR sponsored moderate legislation to silence radical oppos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venue Act of 193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 Response to Huey Long. Increased taxes on large incomes and corpora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anking Act of 193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 Response to Coughlin. Extended federal control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private banking practi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cial Security Act of 193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se to Townsend.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luded provisions for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employables (dependent children, the disabled, blind), unemployment insurance, and old-age pens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9" descr="59a59c40"/>
          <p:cNvPicPr/>
          <p:nvPr/>
        </p:nvPicPr>
        <p:blipFill>
          <a:blip r:embed="rId1"/>
          <a:stretch/>
        </p:blipFill>
        <p:spPr>
          <a:xfrm>
            <a:off x="5519880" y="3537000"/>
            <a:ext cx="34304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0240" y="2487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lection of 193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197000"/>
            <a:ext cx="5087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e Election of 1936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ade the Democratic party the 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majority part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reated a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 new Democratic coalition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omposed of both traditional elements and new elemen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howed that the 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American people rejected radical solution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to depression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2" descr="http://www.authentichistory.com/1930s/fdr/rally01.jpg"/>
          <p:cNvPicPr/>
          <p:nvPr/>
        </p:nvPicPr>
        <p:blipFill>
          <a:blip r:embed="rId1"/>
          <a:stretch/>
        </p:blipFill>
        <p:spPr>
          <a:xfrm>
            <a:off x="4987800" y="1378080"/>
            <a:ext cx="39639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historycentral.com/elections/1936PresElect.jpg"/>
          <p:cNvPicPr/>
          <p:nvPr/>
        </p:nvPicPr>
        <p:blipFill>
          <a:blip r:embed="rId1"/>
          <a:stretch/>
        </p:blipFill>
        <p:spPr>
          <a:xfrm>
            <a:off x="0" y="579600"/>
            <a:ext cx="9210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34800" y="1055520"/>
          <a:ext cx="8589960" cy="5437440"/>
        </p:xfrm>
        <a:graphic>
          <a:graphicData uri="http://schemas.openxmlformats.org/drawingml/2006/table">
            <a:tbl>
              <a:tblPr/>
              <a:tblGrid>
                <a:gridCol w="2794320"/>
                <a:gridCol w="2022480"/>
                <a:gridCol w="2189160"/>
                <a:gridCol w="1584000"/>
              </a:tblGrid>
              <a:tr h="1268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Candid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Par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% Popular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Electoral Vote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D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mocrati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0.3%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lfred E. Landon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epublica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.56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illiam Lemk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adic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93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orman Thomas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cialis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1%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2.21 in 1932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Earl Browder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mmunis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7 (0.25 in 1932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lection of 193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oosevelt Coal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888840"/>
            <a:ext cx="513864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le Republicans were still relying on their traditional base of political support (big business, big farmers, and conservatives), Democrats broadened their constituency by appealing to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mall farmer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Midwest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, urban political bosses, ethnic blue collar workers, Jews, intellectuals, and African America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11" descr="04443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5200" y="1109520"/>
            <a:ext cx="3654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Protection of New Deal Accomplishment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240" y="1017720"/>
            <a:ext cx="5783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eps FDR took to protect New Deal accomplishments (both failed)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urt-Packing Pla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proposed increasing Supreme Court from 9 to 15 members, caused in revolt in Dem. Par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urge of the Democratic Part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Election of 1938 (came out strongly in favor of liberal Dem. Candidates,  evidence that he interfered in a state campaign, Republicans gained strength in both houses of Congres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Picture 2" descr="http://www.laphamsquarterly.org/photos/court_packing_fdr.jpg"/>
          <p:cNvPicPr/>
          <p:nvPr/>
        </p:nvPicPr>
        <p:blipFill>
          <a:blip r:embed="rId1"/>
          <a:stretch/>
        </p:blipFill>
        <p:spPr>
          <a:xfrm>
            <a:off x="5756400" y="1182600"/>
            <a:ext cx="3387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the Great De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080" y="15177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gricultural overpro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dustrial overpro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Unequal distribution of weal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Over-extension of cred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ternational economic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8" descr="acoffee"/>
          <p:cNvPicPr/>
          <p:nvPr/>
        </p:nvPicPr>
        <p:blipFill>
          <a:blip r:embed="rId1"/>
          <a:srcRect l="0" t="1184" r="37002" b="0"/>
          <a:stretch/>
        </p:blipFill>
        <p:spPr>
          <a:xfrm>
            <a:off x="5045040" y="1558800"/>
            <a:ext cx="37879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560" y="26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00"/>
                </a:solidFill>
                <a:latin typeface="Times New Roman"/>
              </a:rPr>
              <a:t>Decline of New Deal Reform after 1937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38120" y="1455840"/>
            <a:ext cx="8486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sons for decline of New Deal reform after 1937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urt-packing pla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Congress irri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cession of 1937-38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akened confidence in New Deal measures. Republicans gained strength in both hou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ttempted purge of Democratic part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il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nservative Democra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re elected to office. Resentful of attempted party purge, they joined ranks with Republicans to block New Deal legisl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reasing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focus on foreign affai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6960" y="23461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Significance of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New Deal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5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ysical Rehabilitation of Count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4440" y="1542600"/>
            <a:ext cx="4907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acke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il ero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uilt dams and planted tre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prevent fl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claimed the grassland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the Grea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Developed water power re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ourage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gional reconstruction project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ike the TVA and Columbia River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http://www.waterencyclopedia.com/images/wsci_01_img0061.jpg"/>
          <p:cNvPicPr/>
          <p:nvPr/>
        </p:nvPicPr>
        <p:blipFill>
          <a:blip r:embed="rId1"/>
          <a:stretch/>
        </p:blipFill>
        <p:spPr>
          <a:xfrm>
            <a:off x="5267160" y="1751040"/>
            <a:ext cx="3670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5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uman Rehabili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0760" y="1030320"/>
            <a:ext cx="493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tablished the principle that government has responsibility for th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health, welfare, and secur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as well as the protection and education of its citize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brac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cial security, public health, hou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ered the domain of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griculture and lab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Picture 2" descr="http://indiana.bilerico.com/2008/12/new_deal_large.jpg"/>
          <p:cNvPicPr/>
          <p:nvPr/>
        </p:nvPicPr>
        <p:blipFill>
          <a:blip r:embed="rId1"/>
          <a:srcRect l="10079" t="0" r="0" b="0"/>
          <a:stretch/>
        </p:blipFill>
        <p:spPr>
          <a:xfrm>
            <a:off x="4906800" y="1300320"/>
            <a:ext cx="4030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vitalization of Poli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3160" y="1646280"/>
            <a:ext cx="450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engthen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executive bran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ssert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residential lead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vitalized political part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vehicle for the popular will and as an instrument for effective 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Picture 2" descr="http://1.bp.blogspot.com/_sjmxrHygBno/SSvKCHp75bI/AAAAAAAACC4/oyB4RjIgIXg/s400/FDR+campaigning.gif"/>
          <p:cNvPicPr/>
          <p:nvPr/>
        </p:nvPicPr>
        <p:blipFill>
          <a:blip r:embed="rId1"/>
          <a:srcRect l="4819" t="6611" r="32278" b="10794"/>
          <a:stretch/>
        </p:blipFill>
        <p:spPr>
          <a:xfrm>
            <a:off x="4745160" y="1895400"/>
            <a:ext cx="4146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840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ension of Democra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5520" y="1327320"/>
            <a:ext cx="4287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defined the concept of democrac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at it included not onl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olitical right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economic securit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cial justi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e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Picture 5" descr="new_deal_wpa"/>
          <p:cNvPicPr/>
          <p:nvPr/>
        </p:nvPicPr>
        <p:blipFill>
          <a:blip r:embed="rId1"/>
          <a:stretch/>
        </p:blipFill>
        <p:spPr>
          <a:xfrm>
            <a:off x="5022720" y="1444680"/>
            <a:ext cx="3495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2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intenance of a Democratic System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36600"/>
            <a:ext cx="5151600" cy="54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Deal maintained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 democratic system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 government and society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in a world threatened by totalitarianis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Increased size and scope of government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meet needs of the depr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Provided the leadership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enabled Congress to put through the necessary relief, recovery, and reform measu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Sponsored moderate legislati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neutralize the popularity of radical opponents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2" name="Picture 2" descr="http://biglizards.net/Graphics/ForegroundPix/White_House.JPG"/>
          <p:cNvPicPr/>
          <p:nvPr/>
        </p:nvPicPr>
        <p:blipFill>
          <a:blip r:embed="rId1"/>
          <a:stretch/>
        </p:blipFill>
        <p:spPr>
          <a:xfrm>
            <a:off x="5162400" y="1479600"/>
            <a:ext cx="3724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blog.heritage.org/wp-content/uploads/2009/01/new-deal-unemployment1.jpg"/>
          <p:cNvPicPr/>
          <p:nvPr/>
        </p:nvPicPr>
        <p:blipFill>
          <a:blip r:embed="rId1"/>
          <a:stretch/>
        </p:blipFill>
        <p:spPr>
          <a:xfrm>
            <a:off x="733320" y="47520"/>
            <a:ext cx="78440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blog.heritage.org/wp-content/uploads/2009/01/ndchart.JPG"/>
          <p:cNvPicPr/>
          <p:nvPr/>
        </p:nvPicPr>
        <p:blipFill>
          <a:blip r:embed="rId1"/>
          <a:stretch/>
        </p:blipFill>
        <p:spPr>
          <a:xfrm>
            <a:off x="1004760" y="154080"/>
            <a:ext cx="722484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epression-GDP-output-1.gif"/>
          <p:cNvPicPr/>
          <p:nvPr/>
        </p:nvPicPr>
        <p:blipFill>
          <a:blip r:embed="rId1"/>
          <a:stretch/>
        </p:blipFill>
        <p:spPr>
          <a:xfrm>
            <a:off x="203364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2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How Herbert Hoover Dealt with the Crisi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720" y="1620720"/>
            <a:ext cx="429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He played the game of confidence economics and just kept saying: </a:t>
            </a:r>
            <a:r>
              <a:rPr b="0" lang="ja-JP" sz="32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sperity is right around the corner.</a:t>
            </a:r>
            <a:r>
              <a:rPr b="0" lang="ja-JP" sz="32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7" descr="1101391218_400"/>
          <p:cNvPicPr/>
          <p:nvPr/>
        </p:nvPicPr>
        <p:blipFill>
          <a:blip r:embed="rId1"/>
          <a:stretch/>
        </p:blipFill>
        <p:spPr>
          <a:xfrm>
            <a:off x="5070600" y="1606680"/>
            <a:ext cx="3809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epression-GDP-output-2.gif"/>
          <p:cNvPicPr/>
          <p:nvPr/>
        </p:nvPicPr>
        <p:blipFill>
          <a:blip r:embed="rId1"/>
          <a:stretch/>
        </p:blipFill>
        <p:spPr>
          <a:xfrm>
            <a:off x="200808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overnment Expendi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6640" y="1157400"/>
            <a:ext cx="88470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total cost of the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current bailout now exceeds $4.6 trilli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llars. It has cost more than all of these government expenditures combined. Figures in parentheses have been adjusted for infla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rshall Pla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2.7 billion ($115.3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ouisiana Purcha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5 million ($21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ace to the Mo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36.4 billion ($23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&amp;L Crisi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53 billion ($256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orean Wa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54 billion ($454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 New Deal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: Cost: $32 billion est.($500 billion est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vasion of Iraq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551billion ($59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ietnam Wa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11 billion ($698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AS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416.7 billion ($851.2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OTAL: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$3.92 trill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luntary Meas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282680"/>
            <a:ext cx="61722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 eventually established two privately-funded organiza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National Credit Associa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rovided $1/2 billion to businesses for emergency loans, but it was too under-funded to do much goo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Organization for Unemployment Relie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as a clearing house for relief agencies. However, state and local governments were already in too much debt to benefit from i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29360" y="1139760"/>
            <a:ext cx="1710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mited Government Interven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480" y="1409400"/>
            <a:ext cx="635004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nd, Hoover resorted to government interven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Reconstruction Finance Cor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ave $1-1/2 billion in federal loans to banks, insurance companies, and industry to prevent bankruptcies, but it was too little, too l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Home Loan Bank Ac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rovided federal loans to homeowners to prevent foreclosures, but got bogged down in red ta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878520" y="1123920"/>
            <a:ext cx="16909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sons for Ineffectiven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7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ought business should be self-regula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had a mania for a balanced bud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lacked political fines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5" descr="lect1_6"/>
          <p:cNvPicPr/>
          <p:nvPr/>
        </p:nvPicPr>
        <p:blipFill>
          <a:blip r:embed="rId1"/>
          <a:stretch/>
        </p:blipFill>
        <p:spPr>
          <a:xfrm>
            <a:off x="4416480" y="2030400"/>
            <a:ext cx="4524480" cy="3865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0880" y="602784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5760" y="1519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. Roosevelt</a:t>
            </a:r>
            <a:r>
              <a:rPr b="0" lang="ja-JP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 Appeal/Election of 193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359000"/>
            <a:ext cx="4368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n 1932 presidential election,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FDR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was perceived a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a man of ac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Hoover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was viewed a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a </a:t>
            </a:r>
            <a:r>
              <a:rPr b="0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“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do-nothing president.</a:t>
            </a:r>
            <a:r>
              <a:rPr b="0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”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Norman Thom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the Socialist candidate, was viewed as a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adi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: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 landslide for Democra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a mandate to use government as an agency for human welf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10" descr="lect2_6"/>
          <p:cNvPicPr/>
          <p:nvPr/>
        </p:nvPicPr>
        <p:blipFill>
          <a:blip r:embed="rId1"/>
          <a:stretch/>
        </p:blipFill>
        <p:spPr>
          <a:xfrm>
            <a:off x="4911840" y="1349280"/>
            <a:ext cx="40431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46:24Z</dcterms:created>
  <dc:creator>Edrene S. McKay</dc:creator>
  <dc:description/>
  <dc:language>en-US</dc:language>
  <cp:lastModifiedBy>Mark Scacewater</cp:lastModifiedBy>
  <dcterms:modified xsi:type="dcterms:W3CDTF">2014-01-20T19:03:44Z</dcterms:modified>
  <cp:revision>144</cp:revision>
  <dc:subject/>
  <dc:title>Franklin D. Roosevelt and the New Deal</dc:title>
</cp:coreProperties>
</file>